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EFE-AD29-4454-9169-DE654B26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6C5-B3A2-4220-A44D-2201E8C4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880-2E40-40CA-9CFB-4D9DDC2F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354-3F8D-4B29-86CA-59F51F75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A8B5-D6CC-400F-9207-67A943D9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958-AD22-4A1E-A1E8-A252625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E30-8D88-4BBF-85E5-CEC55FB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3C0-06F8-42B9-B9EB-EA00FDB7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E81-CB0A-454E-8571-CA125DAF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1849-FFF0-4A43-A03D-6769B7A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68E3-6C5F-407C-BBB2-4B37B89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261-9A04-4587-8D4D-F2FB5511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2F99-1FE3-4B05-9776-4CE463A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C7D-EF6F-4401-8049-F25769B0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F1E-F437-483C-913C-A27ED1E6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DF59-4209-442F-A771-729FD2C6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0B11-2A01-4814-B38A-B889455B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A59-1E40-409D-B317-DE419EAC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925-21DF-4C08-A7E4-88F8DB2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AEB-44C6-4034-AA3A-2905F99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B5B-6855-4FFD-A8B5-C011314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E00-2066-49EB-A8D5-FF3AB37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7EF-C8EC-4BD0-BA24-C632535F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629-CAF6-481D-9CED-F435C58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5556" r="0" b="23335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499-B2C0-4E9A-9D1B-708BFCC5F79C}" type="slidenum">
              <a:rPr b="0" lang="en-US" sz="14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9165" t="11112" r="9165" b="11112"/>
            <a:stretch/>
          </p:blipFill>
          <p:spPr>
            <a:xfrm>
              <a:off x="838080" y="762120"/>
              <a:ext cx="7467840" cy="53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9DD-11F9-400D-B508-D04888F129DA}" type="slidenum">
              <a:rPr b="0" lang="en-US" sz="14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mpatibility 6 Full-Adder Topologies  with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1" i="1" lang="en-US" sz="4400" spc="-1" strike="noStrike" baseline="-25000">
                <a:solidFill>
                  <a:srgbClr val="333399"/>
                </a:solidFill>
                <a:latin typeface="Calibri"/>
              </a:rPr>
              <a:t>DD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 Stacking</a:t>
            </a:r>
            <a:endParaRPr b="1" lang="en-US" sz="4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By Wenlu Sun &amp; Jiyati Verma</a:t>
            </a:r>
            <a:endParaRPr b="0" lang="en-US" sz="28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ursday, December 1, 2011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ECE 6332 – VLSI Desig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nal Project Presenta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Simulation Results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11669" r="0" b="0"/>
          <a:stretch/>
        </p:blipFill>
        <p:spPr>
          <a:xfrm>
            <a:off x="1657440" y="2819520"/>
            <a:ext cx="5810040" cy="403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CMOS Adder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05 to 1.05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9.55% above and 4.5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10184" r="0" b="0"/>
          <a:stretch/>
        </p:blipFill>
        <p:spPr>
          <a:xfrm>
            <a:off x="1657440" y="2743200"/>
            <a:ext cx="582912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Mirror Full Adder (M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148 to 0.985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4.36% above and 10.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946" r="0" b="0"/>
          <a:stretch/>
        </p:blipFill>
        <p:spPr>
          <a:xfrm>
            <a:off x="685800" y="28195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Function Adder (T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95 to 1.049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17.7% above and 4.63% below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Gate Adder (TG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65 to 0.79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4.1% above and 28.2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3836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1 (Dyn1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35 to 0.7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1.4% above and 36.4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2 (Dyn2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406 to 0.861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7.8% above and 21.7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ll together now…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Static CMOS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9.55%/-4.55% (Avg: 7.05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M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4.36%/-10.5% (Avg: 7.43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17.7%/-4.63% (Avg: 11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2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7.8%/-21.7% (Avg: 24.8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G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4.1%/-28.2% (Avg: 26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1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1.4%/-36.4% (Avg: 28.9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akeaways / Conclus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tatic adders are the best!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ynamic adders compromise stability for speed, which is needed in Stacked-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esigns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Out of transmission logic adders, TFA does the best balancing of current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Any Questions?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Overview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ll Adder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dence Implementation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mulation Result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akeaway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alibri"/>
              </a:rPr>
              <a:t>V</a:t>
            </a:r>
            <a:r>
              <a:rPr b="1" i="1" lang="en-US" sz="4000" spc="-1" strike="noStrike" baseline="-25000">
                <a:solidFill>
                  <a:srgbClr val="0066ff"/>
                </a:solidFill>
                <a:latin typeface="Calibri"/>
              </a:rPr>
              <a:t>DD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Stacking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866880"/>
            <a:ext cx="5486400" cy="59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Noise Reduction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ttenuates Power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Dissipated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pplication of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Stacked-</a:t>
            </a:r>
            <a:r>
              <a:rPr b="0" i="1" lang="en-US" sz="24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to adders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Purpose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o minimize the fluctuation of 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Which full adder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topology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 does this the best? 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n we make any generalizations </a:t>
            </a:r>
            <a:br>
              <a:rPr sz="3200"/>
            </a:b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in those decisions?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10320" y="4091040"/>
            <a:ext cx="253368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2666880"/>
            <a:ext cx="1295640" cy="762120"/>
          </a:xfrm>
          <a:prstGeom prst="wedgeEllipseCallout">
            <a:avLst>
              <a:gd name="adj1" fmla="val 55393"/>
              <a:gd name="adj2" fmla="val -51458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971800"/>
            <a:ext cx="2590920" cy="914400"/>
          </a:xfrm>
          <a:prstGeom prst="wedgeEllipseCallout">
            <a:avLst>
              <a:gd name="adj1" fmla="val -6310"/>
              <a:gd name="adj2" fmla="val -86287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ransmiss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Gat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1752480" cy="762120"/>
          </a:xfrm>
          <a:prstGeom prst="wedgeEllipseCallout">
            <a:avLst>
              <a:gd name="adj1" fmla="val -58240"/>
              <a:gd name="adj2" fmla="val -49375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Full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60088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5667480" cy="2781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tic CMO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Mirror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Logic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nction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Gate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18120" y="1447920"/>
            <a:ext cx="2368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41960" y="4267080"/>
            <a:ext cx="230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NP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MOS 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ndard Fare (#1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uggested From a Paper(#2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95920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adence Implementat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alibri"/>
              </a:rPr>
              <a:t>Claim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: When inputs of FA0 and FA1 swing in opposite directions, then the greatest amount of noise occurs at the output causing the most imbalanced V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conditions.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724120"/>
            <a:ext cx="8391600" cy="22287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320" y="1447920"/>
            <a:ext cx="8610480" cy="4724280"/>
            <a:chOff x="76320" y="1447920"/>
            <a:chExt cx="8610480" cy="4724280"/>
          </a:xfrm>
        </p:grpSpPr>
        <p:sp>
          <p:nvSpPr>
            <p:cNvPr id="115" name=""/>
            <p:cNvSpPr/>
            <p:nvPr/>
          </p:nvSpPr>
          <p:spPr>
            <a:xfrm>
              <a:off x="76320" y="1447920"/>
              <a:ext cx="861048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1981080"/>
              <a:ext cx="3124080" cy="3200400"/>
            </a:xfrm>
            <a:prstGeom prst="rect">
              <a:avLst/>
            </a:prstGeom>
            <a:noFill/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3526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  <a:ea typeface="Arial"/>
                </a:rPr>
                <a:t>–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62320" y="1752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1752480"/>
              <a:ext cx="1522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3880" y="2438280"/>
              <a:ext cx="914400" cy="762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8280" y="27050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280" y="29336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0920" y="277344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1640" y="25448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3880" y="3962520"/>
              <a:ext cx="914400" cy="761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1148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43434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572000"/>
              <a:ext cx="15696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8280" y="42292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8280" y="44578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1600" y="39625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0440" y="41911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920" y="429732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1640" y="4068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5120" y="3505320"/>
              <a:ext cx="152280" cy="15228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486400" y="5181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371920" y="5333760"/>
              <a:ext cx="228600" cy="22860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1840" y="33670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443400"/>
              <a:ext cx="14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00600" y="426708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0"/>
              <a:endCxn id="128" idx="0"/>
            </p:cNvCxnSpPr>
            <p:nvPr/>
          </p:nvCxnSpPr>
          <p:spPr>
            <a:xfrm>
              <a:off x="4871880" y="4419360"/>
              <a:ext cx="5760" cy="15300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 flipV="1">
              <a:off x="4876920" y="411444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4197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1 = 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91160" y="25909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28195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3440" y="3048120"/>
              <a:ext cx="15732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6960" y="2666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67120" y="2743200"/>
              <a:ext cx="15192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0"/>
              <a:endCxn id="146" idx="0"/>
            </p:cNvCxnSpPr>
            <p:nvPr/>
          </p:nvCxnSpPr>
          <p:spPr>
            <a:xfrm>
              <a:off x="4838400" y="2895480"/>
              <a:ext cx="5400" cy="15336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 flipV="1">
              <a:off x="4843440" y="259056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2720" y="289548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0 = 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6960" y="24382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40384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27432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2680" y="42670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67080" y="25146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8280" y="24382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8280" y="26668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74600" y="39625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600" y="41911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2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24480" y="64911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Calibri"/>
              </a:rPr>
              <a:t>I/O for Mirror adder…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29:18Z</dcterms:created>
  <dc:creator> </dc:creator>
  <dc:description/>
  <dc:language>en-US</dc:language>
  <cp:lastModifiedBy> </cp:lastModifiedBy>
  <dcterms:modified xsi:type="dcterms:W3CDTF">2011-12-01T16:46:59Z</dcterms:modified>
  <cp:revision>4</cp:revision>
  <dc:subject/>
  <dc:title>The Effectiveness of Stacked-VDD on Different Full-Adder Topologies without Voltage Regulation</dc:title>
</cp:coreProperties>
</file>